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86B1-91DC-4FA1-BE31-76F96503D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6831-7046-4011-B10A-ED563A29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7FA3-4926-42BA-827E-8D51A2F2D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3477-F30A-4219-8764-CA0E0C69B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12AC-7896-4E98-BB2C-5B1166311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6963-DEF1-453B-991A-DAB12BF5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CE44-5B6A-4DFF-B3A8-2892AF93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EEBA-6121-4BD7-B26D-AFDC03BF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03BC-C0C8-4311-B51A-EB9D8369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724E-1124-4096-9179-FA2923F2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A8A9-6E92-4064-9E5A-C85F4F4A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8335-48A4-420D-9180-5D8A07E0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A770-E8EE-4406-A8EA-A4C165EA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EA75-998F-48D1-82F1-8AB23DCE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70E2-E965-4844-83EF-8B6898D5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8E9C-9A44-46D9-953C-9F3D2C7B9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E9CA-FA1B-47F7-870C-45F18FFC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6F81-49DA-4418-A644-BD2A857C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1190-739D-40A8-A0A8-8A85FA9D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8D5D-1151-4D03-9237-44244BFD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4316-54A8-4AAD-8125-D009439D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7653-127B-487F-AD2D-5B56740F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02E1-4219-4843-906C-04564A3B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E290-1B92-4694-A3DF-29D6BFAD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0812-4260-4E03-873A-4C2226CA720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E211-5205-4CD9-AEA5-10EFEC32062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ank paid 22000 dollars to the man for his awar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ank paid twenty-two thousand dollars to the man for his awar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le: amounts of money, decimals and percentages should be written as numerals. You write out percent, however. Numerals  that can be expressed in one or two words should be spelled ou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. Forty-six cents        $2.7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eewri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you believe in ghosts or evil spirits? Would you be willing to spend a night alone in a remote house that is supposedly haunted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work-Jun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’t forget to finish ch. 4 if you haven’t alread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 due Fri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work-Fresh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’t forget chapters 16 and 17 for tomorrow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ect a quiz sometime this wee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 due Fri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rve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ke surve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t in top shelf when do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ocabulary-week 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the sheet with a partn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ue before  you leav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4:33:08Z</dcterms:created>
  <dc:creator>rebecca</dc:creator>
  <dc:description/>
  <dc:language>en-US</dc:language>
  <cp:lastModifiedBy>rebecca</cp:lastModifiedBy>
  <dcterms:modified xsi:type="dcterms:W3CDTF">2009-02-23T19:58:49Z</dcterms:modified>
  <cp:revision>2</cp:revision>
  <dc:subject/>
  <dc:title>DOL</dc:title>
</cp:coreProperties>
</file>